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24F-4F18-4E80-8F8A-5E09A35B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4A0-0CC6-4AE1-8087-03E2F159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BCB-804A-449C-A5E2-6D6C7EA5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E1B-3236-4E42-A121-3B1E4CF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E4F-C1FC-42C0-94C3-ECC5AE1E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79C-803B-4112-B14F-80C290E0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CF7-A346-4B74-91BC-BED3D72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622-E813-4F95-B730-8F37F8B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D95-BF72-4BB8-80E6-7D7DD49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967-08B3-4281-9A17-035C34A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971-D05D-4944-80AB-1B50CCD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A44-E4B1-4E01-A85D-CCB2B64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BD46-5ED5-4714-BADA-581E3623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y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Knobl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0160" y="1600200"/>
            <a:ext cx="640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85800"/>
            <a:ext cx="60962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728720"/>
            <a:ext cx="57913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199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5:32:35Z</dcterms:created>
  <dc:creator>bal_atknoblauch</dc:creator>
  <dc:description/>
  <dc:language>en-US</dc:language>
  <cp:lastModifiedBy>C</cp:lastModifiedBy>
  <dcterms:modified xsi:type="dcterms:W3CDTF">2009-05-22T20:14:28Z</dcterms:modified>
  <cp:revision>4</cp:revision>
  <dc:subject/>
  <dc:title>Photography Portfolio</dc:title>
</cp:coreProperties>
</file>